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3264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35040" y="380520"/>
            <a:ext cx="9067680" cy="899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creó todas las cosas, así que él nos da todo lo que tie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 igual manera, todo lo que nosotros tenemos es de Dios tambié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o el diezmo es darle a Dios una décima de todo lo que él nos da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bendice a los que compar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35040" y="228600"/>
            <a:ext cx="9144000" cy="922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le devolvemos a Dios un dólar de cada diez, estamos diciendo que sabemos que él siempre nos dará má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amamos a Dios, confiamos en é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confiamos en Dios, devolvemos uno de cada diez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ando tenemos fe en las promesas de Dios, él nos bend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58360" y="380520"/>
            <a:ext cx="8991720" cy="906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¡Dios ha prometido que cuando devolvemos el diezmo, cuando compartimos con él el dinero y las cosas que nos da, él nos dará má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nos dará más para que sigamos confiando en él, y para que tengamos tanto, que podamos ayudar a los que necesit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confío en las promesas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1000" y="4025520"/>
            <a:ext cx="845820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Lo mío es tuyo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y lo tuyo es mí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58720" y="304920"/>
            <a:ext cx="9220320" cy="914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y vamos a aprender una de las maneras cómo nuestra confianza en Dios crece cada dí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queremos a alguien, confiamos en el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un bebé esta creciendo, conoce la voz de su a papá y de su mamá y confía en que ellos los van a cuid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es nuestro padre y nos cuid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35040" y="533160"/>
            <a:ext cx="9067680" cy="921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amamos a Dios, confiamos en él. En la Biblia, esa confianza se llama f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amos en Dios contándole nuestros secret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amos en Dios cuando oramos para pedirle algo y confiamos que el nos escuchará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demos confiar en que Dios nos escuch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58360" y="533160"/>
            <a:ext cx="906804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vemos que Dios cumple sus promesas, tenemos más fe y somos mejores am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el libro de Génesis hay una historia de un joven llamado Jaco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ob salió solito de su casa a un viaje largo y tenía miedo de qué pasaría con el en el futur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siempre nos cuid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35040" y="-360"/>
            <a:ext cx="9067680" cy="975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ob caminó todo el día y, cuando llego la noche, paró para dorm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a noche, Dios le dio un sueño a Jacob y le prometió que estaría con él durante todo su viaje y que nunca lo dejaría sol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le prometió a Jacob que algún día lo iba a regresar a la casa de sus padres y nada malo le pasaría por su viaj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600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siempre cumple sus promes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35040" y="228600"/>
            <a:ext cx="9067680" cy="922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medio de la noche, Jacob despertó de su sueño y dijo: “¡Dios está conmigo y yo no lo sabía!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 otro día, Jacob despertó tempranito en la mañana e hizo una promesa de confianza en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acob dijo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34680" y="533520"/>
            <a:ext cx="8991720" cy="861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0">
              <a:lnSpc>
                <a:spcPts val="51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Dios me acompaña y me protege en este viaje que estoy haciendo, y si me da alimento y ropa para vestirme,  y si regreso sano y salvo a la casa de mi padre, entonces el Señor será mi Dios... y de todo lo que Dios me dé, le daré la décima parte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9880" indent="0">
              <a:lnSpc>
                <a:spcPts val="51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énesis 28:20-22 NV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34680" y="228240"/>
            <a:ext cx="8991720" cy="929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ob decidió que si Dios cumple todas sus promesas, entonces él iba a seguir a Dios y confiar en él toda su vid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ob decidió también que si Dios le daba ropa, comida y las cosas que él necesitaba, entonces él le daría el diezmo 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l diezmo es uno de cada die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9:22:18Z</dcterms:created>
  <dc:creator/>
  <dc:description/>
  <dc:language>en-US</dc:language>
  <cp:lastModifiedBy>Freddy Fernandez</cp:lastModifiedBy>
  <dcterms:modified xsi:type="dcterms:W3CDTF">2013-02-28T19:48:47Z</dcterms:modified>
  <cp:revision>13</cp:revision>
  <dc:subject/>
  <dc:title>Lo mio es tuyo, y lo tuyo es mio</dc:title>
</cp:coreProperties>
</file>